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EC64-570F-4664-AF17-5340C2BD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0693-0FB9-42FD-8253-ACE3F813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1CE8-2348-4F62-8A30-43393859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B7FF-8E74-4629-89F3-029C874F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8B1D-AFB0-4EA9-A8C8-4747AC4A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648F-F6DE-4BF6-AA60-342DDA54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6D14-4DC2-4202-BC92-949C7B53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3FFC-D06E-4824-89B5-0CEC8388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600A-1686-4ED4-97D3-E51501E1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327F-D8C3-4849-AC06-AEAEA47C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54D4-142E-484A-A2CE-5177980E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EFD5-BECE-4323-B8CA-59465ED0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23C0-F618-482F-9EE1-0917EC921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Laff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52280" y="1295280"/>
            <a:ext cx="7162560" cy="2819520"/>
          </a:xfrm>
          <a:prstGeom prst="ellipse">
            <a:avLst/>
          </a:prstGeom>
          <a:solidFill>
            <a:srgbClr val="ffffcc">
              <a:alpha val="57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438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1568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cked l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2863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200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92400"/>
            <a:ext cx="121896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25588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1873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2787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7208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21780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26352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30924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35496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406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21016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2558880"/>
            <a:ext cx="1524240" cy="22100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4159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Eclipse 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25588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30160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47242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 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86400" y="6172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5715000"/>
            <a:ext cx="13716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8604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267080"/>
            <a:ext cx="3200400" cy="22100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35232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57150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50292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43434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3341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7913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48006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38880" y="2666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5029200"/>
            <a:ext cx="12952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-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50496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121932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Sept 14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y: 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64771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ng worked for 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286000"/>
            <a:ext cx="3429000" cy="3809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4724280"/>
            <a:ext cx="3429000" cy="21337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6172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20:22:52Z</dcterms:created>
  <dc:creator>Chris Laffra</dc:creator>
  <dc:description/>
  <dc:language>en-US</dc:language>
  <cp:lastModifiedBy>Chris Laffra</cp:lastModifiedBy>
  <dcterms:modified xsi:type="dcterms:W3CDTF">2004-10-05T14:16:18Z</dcterms:modified>
  <cp:revision>1</cp:revision>
  <dc:subject/>
  <dc:title>Universal IDE Generator</dc:title>
</cp:coreProperties>
</file>